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2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FF5C-3A3A-40FF-9CDD-00BA7914B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1AE5-DDF4-4C31-9DE7-BFA19A177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E99F-1970-4B1F-9338-3CF0EC0DD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3195-3679-4900-A263-3091965BC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6912-1515-43D8-927B-602FFBF2C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6B2F-CB97-49B9-97C8-3878078C2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5030-2C0C-4C0A-8BE7-F7F58F48D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4B59-4CC4-443C-AB96-0048B5E59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033C-F332-45A9-B41C-CE77EA4E7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DD86-1965-4FFF-9CE8-630FEFD10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4F0B-C6C2-440B-8972-9BD726B5C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5515-D6EA-4CA6-BFD8-5E567ABBD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81F2-34BD-48C8-B692-2A5E54DD6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2D8F-9AAA-428A-A31B-41462D8AD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1041-4411-4EDE-BDB7-8F1366A2E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AF7-A8E7-462B-87A3-E76EE7E4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348-028E-4248-BE13-650F4528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848-A23B-4824-A7E1-949988B9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917-1C9F-4CC2-9B48-48031BE9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515D-5759-43C0-9B22-D4050418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8676-9F09-4E2B-935C-08843BD1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CF8B-D21C-4D72-ADBB-6EEAF3D8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9467-1D73-423B-9189-EC1C9EB5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A147-A0A8-4EDE-908F-E0B971DE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C297-0184-41D3-AFC5-9C31268B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BF48-BE1C-4773-876A-A881CC52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3FE-0B55-4399-BD56-21082DD0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151B-E18F-45B6-B888-4E16C283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3734-3127-4E5C-A371-02296FDE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5A71-669C-4B15-B2C4-4D6F2528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8E00-D46C-474C-AEBF-C31438BB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4701-9E0D-49AC-860F-590D0EE4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8510B-B8AC-487A-B6FB-1CD5FAC4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18A5-E7AB-4694-B079-0D1A6D87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583E-29C5-44F4-B857-150B9AD5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8262-CF10-4001-BB38-8E5E8B6F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F267-B476-4115-B7FC-1E2465B7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DB2-EC88-4AE3-BB38-D07C2B67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D06D-B85F-429D-8510-5B28248A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F1CF-423C-40AA-AB0E-6A959A91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C0E4-9485-4067-9983-86FC637A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A27A-0ED6-4973-BAA1-A38FE19D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2BD4-DA78-495C-A863-A01865E2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F0B8-DE6E-4193-8033-1B4BA4A1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CDE5B-2C34-482E-9AE0-DA759721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DC28-CF52-48F6-B597-AD01CB59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E4555-FD7B-447B-B738-F286AE16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D6D70-59D0-40DD-83B9-A0226CC3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44B-985A-47DD-9A63-E5FA434D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3E078-2E27-408D-97A2-A261617F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E6045-C081-47CD-8FEC-ACDBC7B8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D6FA9-AF1E-46B4-A935-E31C80A5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99A8B-DB28-4C59-AAD0-3D4B674E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8696-1511-4BE9-9470-407085AF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E448D-0014-4D91-BCD8-FF618B6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D013B-4895-440F-AC8E-357F62A3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62DE-3EAC-4FB5-A67A-B50C91A8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5A0C3-1323-4879-9BF4-1C986382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1F05D-A5B2-41E5-8157-559A21C4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C8F-1B27-461D-A080-A3878A34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6CA70-9C39-4C3A-B129-8C9C3B8E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6BBC3-514E-443D-B659-2ABE7CA5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4A865-A43B-42F5-90E9-60E7A112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B3DD9-3B49-4807-8954-DBEEDFB1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61421-40C4-4952-ADE9-FA87B5F8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41E53-46CD-4607-B163-B5775ABF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8969F-A6D0-4C75-A237-5A1B9E18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685EC-DF30-41DD-AFB1-9E0FB18D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E7120-BFD4-46DF-BE77-339D6443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92846-B6E0-4DCB-90D9-4C271258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BC4-9F7B-4F04-A215-AFBDE802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F17BF-7E8D-47A1-969E-7ED33CA4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E2523-28F3-46FE-9051-0FA231FE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88BC3-1604-40D6-9A28-D7413E96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4B098-687C-4DD5-A786-D4B40DF4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16A45-777A-42D8-8686-5C008D7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3EF02-A46C-4419-9882-A1354BF8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7FCD2-28BE-448B-A477-499D7222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B7E74-2528-4864-AF85-35701EA9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FCC27-0A26-450A-AE16-7158B232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87926-B6DE-4E49-A562-5C6D368B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28A-0DD9-4AB7-8B82-BFBC40D4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22B1-E21C-41B4-B08E-968EB52E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D4F3A-5474-41A8-B38C-EE46C7B7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634DF-17DF-4E8B-B729-13785490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16A78-FC1C-4816-8C14-1CD6F502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8F248-60AA-4CA3-85B6-6FC7EE35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0D768-521B-4C9E-8D48-967C6746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B3817-93A7-490C-BBAE-C91C9072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1E0F2-07C0-409D-B63E-44A087CB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D1C2C-1FD6-4317-BEC2-71445C3F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1DE46-9B01-4223-BB70-F492E61D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924-CA4F-4A28-865B-35F47AA1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75BC1-107F-4482-B0C4-38C6BCCA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795E-7A36-4DB4-8F35-586CF7C9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1B0DB-CA75-4417-AE55-FE5D13ED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8F321-65DE-4779-B712-7DC9F25C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C5E7-4D31-4F97-AF0F-7EC2BD3B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E72-3309-4E78-987E-6C9BCFE7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A95A-3065-4BEA-964E-52FD8B34854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7658-C522-4C12-A497-9F2437F415A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50B4-2306-4F84-B78B-900A25CA499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3156-C33B-448C-8306-981FA52BE0B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29E4-7D13-4920-98E2-09AE36037BF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82F1-22A1-474A-8365-DBF46DFB5F6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079D-66CB-4083-AE70-B4D8CFBC975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youtube.com/watch?v=AlzqmtDvkg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youtube.com/watch?v=yiBaSqO7n9U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449-106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mething that causes a person to act in a certain way; incent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y you do what you 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s of motive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king good grades –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rting an exercise program –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ying to someone –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word or an object that stands for another word or objec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s of symbolis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7" descr="flag.jpg"/>
          <p:cNvPicPr/>
          <p:nvPr/>
        </p:nvPicPr>
        <p:blipFill>
          <a:blip r:embed="rId2"/>
          <a:stretch/>
        </p:blipFill>
        <p:spPr>
          <a:xfrm rot="20773200">
            <a:off x="574560" y="3633480"/>
            <a:ext cx="2590920" cy="1933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peace.bmp"/>
          <p:cNvPicPr/>
          <p:nvPr/>
        </p:nvPicPr>
        <p:blipFill>
          <a:blip r:embed="rId3"/>
          <a:stretch/>
        </p:blipFill>
        <p:spPr>
          <a:xfrm rot="1044600">
            <a:off x="6552720" y="4343400"/>
            <a:ext cx="1828800" cy="1847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scarlet A.bmp"/>
          <p:cNvPicPr/>
          <p:nvPr/>
        </p:nvPicPr>
        <p:blipFill>
          <a:blip r:embed="rId4"/>
          <a:stretch/>
        </p:blipFill>
        <p:spPr>
          <a:xfrm rot="20555400">
            <a:off x="3179880" y="4708080"/>
            <a:ext cx="1676160" cy="1648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" descr="gatsby.jpg"/>
          <p:cNvPicPr/>
          <p:nvPr/>
        </p:nvPicPr>
        <p:blipFill>
          <a:blip r:embed="rId5"/>
          <a:stretch/>
        </p:blipFill>
        <p:spPr>
          <a:xfrm rot="534600">
            <a:off x="4952520" y="2895120"/>
            <a:ext cx="18385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pecialized metaphor in which an object is described in a tw0-word phrase and is used in place of a noun or a na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riginally used in Anglo-Saxon and Norse poet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amples of kenning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ky-cand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le-ro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g ra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amp stam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etition of consonant sou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s of allitera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tty Boop birthed a bouncing baby boy named Bo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e sells seashells by the seasho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unkin Donu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uck E. Che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id I’m so sick of love songs, so sad and slow ;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ven though Beowulf was written as a pagan myth, more than likely a Christian monk copied it down, adding Christian elements into the dialogue and plo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ristian elements refer to anything that has to do with God, such as Heaven, Lord, God’s wi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ample of Christian element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ge 21, lines 20-23, “Conceived by a pair of those monsters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born of Cai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murderous creatures banished by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Go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punished forever for the crime of 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Abel’s death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an elements have to do with those things that do not relate to God, such a fate, monsters, witchcraft, gods/goddesses (Zeus, Athe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e 33, lines 483-485, “for that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n-stained dem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had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bewitch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ll men’s weapons,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laid spell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at blunted every mortal man’s blade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lgamesh was an actual historic figu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ing of Uruk around 2700 B.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ruk was a Mesopotamian city which was near present-day southern Iraq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lgamesh was a warrior and a builder and was known for his wisdo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epic, Gilgamesh is two-thirds god and one-third ma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 was a cruel and oppressive lead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is people pleaded to the gods, who heard them and created a wild man named Enkidu (en KEY do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kidu was raised by wild anima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hunter discovers him and send a prostitute to tame him and to teach him how to be a ma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kidu hears of Gilgamesh’s ways, so he goes to challenge Gilgamesh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y wrestle, and Gilgamesh wins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two become good friends and set out on adventur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adventure they decide on is to steal trees from a cedar forest which is forbidden to morta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forest is protected by Humbaba, a fiercely evil and deformed monst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rhy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iteration – repetition of consonant sou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racie grabbed a basket of bright, beautiful buttercup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esura – a rhythmical pause in the middle of a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 err is human; to forgive, divin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 beats per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ixture of Christian and pagan ele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nnings – specialized metaphors of comp0und wor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es Gilgamesh fit the HEROIC IDEAL?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Y or WHY NO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manuscript of miscellaneous Anglo-Saxon poems dating from 940 AD, copied in 975 A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eserved at Exeter Cathedral in Engla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book has made it through fires and raids, but not without dam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ver has been used as a chopping bloc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ges have beer stai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me pages have been partly burn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9" name="Content Placeholder 3" descr="imagesCA2N4NYU.jpg"/>
          <p:cNvPicPr/>
          <p:nvPr/>
        </p:nvPicPr>
        <p:blipFill>
          <a:blip r:embed="rId2"/>
          <a:stretch/>
        </p:blipFill>
        <p:spPr>
          <a:xfrm>
            <a:off x="2514600" y="1828800"/>
            <a:ext cx="3692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legy - a poem that mourns the death of someone or laments the loss of someth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egory – use of characters, settings, or events to stand for abstract or moral concep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poem is NOT a stor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IS a look at life from the point of view of someone who has known hardship and sufferin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ve you ever experienced feeling torn between wanting to be safe but wanting to seek adventure at the same tim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me feel the seafarer is speaking to a younger man who is eager to go to se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s feel the seafarer is exposing his inner conflic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rst part (up to line 64) – he speaks of the cares and suffering of his earthly existe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part (line 64 to end) – he longs for the joys of heaven; this is his only concer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lln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emy’s swor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o is the main character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seafar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is the poem about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ffering, hardshi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re does the poem take plac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n the open se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does it take plac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uring Anglo-Saxon times; over a lifetime; win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y does the speaker return to the se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e feels himself being called back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ennin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mager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legiac mood (a sense of sadness over the grimness of earthly life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liter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youtube.com/watch?v=AlzqmtDvkg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4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3182 lines as opposed to over 15,0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pic – long narrative poem about the adventures of a hero whose actions affect the fate of a n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rbel"/>
              </a:rPr>
              <a:t>Iliad, The Odysse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nglo-Saxon heroic ideal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rbe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rified by the people he sav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tremely </a:t>
            </a:r>
            <a:r>
              <a:rPr b="1" lang="en-US" sz="2600" spc="-1" strike="noStrike">
                <a:solidFill>
                  <a:srgbClr val="ff0000"/>
                </a:solidFill>
                <a:latin typeface="Corbe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ca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rbe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nsters are defeated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uperior </a:t>
            </a:r>
            <a:r>
              <a:rPr b="1" lang="en-US" sz="2600" spc="-1" strike="noStrike">
                <a:solidFill>
                  <a:srgbClr val="ff0000"/>
                </a:solidFill>
                <a:latin typeface="Corbe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rength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nemonic device = GEM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oet Homer wrote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Odysse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osed sometime between 900 and 700 B.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ttle is known about Hom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nam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Home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may mean “hostage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 may have been a slave or descended from slav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mer used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epic simile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extended comparison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)  These comparisons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last for several line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us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mpare extraordinary, heroic actions to simple, everyday events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ith which Homer’s audience would be famili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0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ld in oral trad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ubris – extreme pri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0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Greek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chilles – son of a mortal king, Peleus, and the sea goddess, Thetic; king of Myrmidons; mightiest of the Greek warrio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troclus – Greek warrior; dearest friend of Achil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Troja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ector – son of King Priam and Queen Hecuba; commander of the Trojan for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ris – son of King Priam and Queen Hecub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iam – king of Troy; father of Hector and Pari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go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pollo – god of poetry, music, prophecy; often referred to as the only son of Zeus and Leto, the daughter of the Titans; sides with the Troja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thena – goddess of wisdom; takes the Greeks’ side in the conflic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Zeus – father-god; remains more or less neutral throughout the conflic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ong with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Odysse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ells the story of the Trojan W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war began with a beauty page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phrodite, Athena, and Hera decided to compete for a golden apple which was inscribed “To the Fairest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ods chose Paris, the prince of Troy and  a mortal, to judge the page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is was young and handsome but naïv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oddesses each attempted to bribe Paris.  He finally accepted Aphrodite’s bribe because she offered him the most appealing gift—marriage to Helen, the world’s most beautiful woma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0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There was a slight problem though.  Helen was already married to King Menelaus of Greece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Paris took her anyway, and they sailed for Troy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The Greek chieftains were outraged by the abduction.  They were bound by oaths of loyalty, so they followed the leadership of Menelaus’s brother Agamemnon and attacked Troy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0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reek war party laid siege to Troy.  This led to a conflict which lasted ten years before the Greeks defeated Troy and recaptured Hele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was due to the craftiness of Odysseus that the Greeks were successfu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0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revolves around two main character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hilles – the bravest and most handsome warrior in the Greek arm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ctor – the honorable warrior-prince of Tro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tragedy of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set into motion because of human emotion:  the anger of Achilles toward Hec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ctor kills Patroclus, Achilles closest friend, and takes his armor from the corp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hilles seeks reve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0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pic simi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ubri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ds’ involvemen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central idea or insight of a work of literatu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OT the same thing as the mor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ften impli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did the hero do in the story?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ow did the hero’s actions show his concern for society?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Both questions sound the same, but the first deals with the PLOT of the story.  The second deals with the </a:t>
            </a: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theme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of the stor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are some common themes in literatur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rime does not pa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dversity (hardships) can be overcom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Life and death are intricately connecte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milarities between Beowulf and Hect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Beowulf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– epic hero; a Gea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recca – Beowulf’s friend &amp; competito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iglac – Beowulf’s uncle &amp; feudal l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Grendel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– man-eating monst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Unferth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– skilled warrior of Hrothgar; jealous of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Hrunting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– Unferth’s sword used by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Hrothgar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– King of the Danes (Denmark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Geats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– Beowulf’s tribe (Swede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Grendel’s mom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– she-wolf; water-witch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Herot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– Hrothgar’s golden mead hal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Wiglaf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– Beowulf’s loyal warrior; fights the drago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map beowulf.jpg"/>
          <p:cNvPicPr/>
          <p:nvPr/>
        </p:nvPicPr>
        <p:blipFill>
          <a:blip r:embed="rId2"/>
          <a:stretch/>
        </p:blipFill>
        <p:spPr>
          <a:xfrm>
            <a:off x="2743200" y="1508040"/>
            <a:ext cx="3657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3" name="Content Placeholder 3" descr="village house.jpg"/>
          <p:cNvPicPr/>
          <p:nvPr/>
        </p:nvPicPr>
        <p:blipFill>
          <a:blip r:embed="rId2"/>
          <a:stretch/>
        </p:blipFill>
        <p:spPr>
          <a:xfrm rot="20789400">
            <a:off x="461520" y="197136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mead hall.jpg"/>
          <p:cNvPicPr/>
          <p:nvPr/>
        </p:nvPicPr>
        <p:blipFill>
          <a:blip r:embed="rId3"/>
          <a:stretch/>
        </p:blipFill>
        <p:spPr>
          <a:xfrm rot="992400">
            <a:off x="6062400" y="1933560"/>
            <a:ext cx="2600280" cy="1752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mead hall beo.bmp"/>
          <p:cNvPicPr/>
          <p:nvPr/>
        </p:nvPicPr>
        <p:blipFill>
          <a:blip r:embed="rId4"/>
          <a:stretch/>
        </p:blipFill>
        <p:spPr>
          <a:xfrm>
            <a:off x="1981080" y="3886200"/>
            <a:ext cx="51818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youtube.com/watch?v=yiBaSqO7n9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of vivid or figurative language to form mental images, figures, or likene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agery appeals to ALL senses—sight, smell, taste, hearing, tou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8:09:43Z</dcterms:created>
  <dc:creator>pcoles</dc:creator>
  <dc:description/>
  <dc:language>en-US</dc:language>
  <cp:lastModifiedBy>user</cp:lastModifiedBy>
  <dcterms:modified xsi:type="dcterms:W3CDTF">2013-08-12T16:02:56Z</dcterms:modified>
  <cp:revision>189</cp:revision>
  <dc:subject/>
  <dc:title>Anglo-Saxon Literature</dc:title>
</cp:coreProperties>
</file>